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aser lights in servic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6440" indent="-43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Blue lights in service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6440" indent="-43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21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d lanterns in servic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6440" indent="-43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3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lastic buoys in service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6440" indent="-43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otal of EWMB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8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599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EWMB in servic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6440" indent="-43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Rectangle 3"/>
          <p:cNvGraphicFramePr/>
          <p:nvPr/>
        </p:nvGraphicFramePr>
        <p:xfrm>
          <a:off x="-36360" y="1576440"/>
          <a:ext cx="9324720" cy="44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576440"/>
                    <a:ext cx="932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9640" y="1812960"/>
            <a:ext cx="7989120" cy="1007280"/>
            <a:chOff x="539640" y="1812960"/>
            <a:chExt cx="7989120" cy="1007280"/>
          </a:xfrm>
        </p:grpSpPr>
        <p:grpSp>
          <p:nvGrpSpPr>
            <p:cNvPr id="55" name=""/>
            <p:cNvGrpSpPr/>
            <p:nvPr/>
          </p:nvGrpSpPr>
          <p:grpSpPr>
            <a:xfrm>
              <a:off x="539640" y="1812960"/>
              <a:ext cx="7737840" cy="1007280"/>
              <a:chOff x="539640" y="1812960"/>
              <a:chExt cx="7737840" cy="1007280"/>
            </a:xfrm>
          </p:grpSpPr>
          <p:sp>
            <p:nvSpPr>
              <p:cNvPr id="56" name=""/>
              <p:cNvSpPr/>
              <p:nvPr/>
            </p:nvSpPr>
            <p:spPr>
              <a:xfrm>
                <a:off x="539640" y="2317680"/>
                <a:ext cx="75265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7689600" y="1812960"/>
                <a:ext cx="587880" cy="1007280"/>
                <a:chOff x="7689600" y="1812960"/>
                <a:chExt cx="587880" cy="1007280"/>
              </a:xfrm>
            </p:grpSpPr>
            <p:sp>
              <p:nvSpPr>
                <p:cNvPr id="58" name=""/>
                <p:cNvSpPr/>
                <p:nvPr/>
              </p:nvSpPr>
              <p:spPr>
                <a:xfrm rot="16200000">
                  <a:off x="7550640" y="195192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 rot="5400000">
                  <a:off x="7550640" y="245556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29360" y="195768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927560" y="249408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 rot="10800000">
              <a:off x="8285040" y="204156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-396720" y="1306440"/>
          <a:ext cx="9540720" cy="514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306440"/>
                    <a:ext cx="9540720" cy="51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7" name="Rectangle 3"/>
          <p:cNvGraphicFramePr/>
          <p:nvPr/>
        </p:nvGraphicFramePr>
        <p:xfrm>
          <a:off x="-324000" y="1122480"/>
          <a:ext cx="9468000" cy="50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122480"/>
                    <a:ext cx="94680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79280" y="1090440"/>
          <a:ext cx="896472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90440"/>
                    <a:ext cx="896472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181080" y="1300320"/>
          <a:ext cx="9325080" cy="486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300320"/>
                    <a:ext cx="93250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9640" y="1428840"/>
            <a:ext cx="7989120" cy="1007280"/>
            <a:chOff x="539640" y="1428840"/>
            <a:chExt cx="7989120" cy="1007280"/>
          </a:xfrm>
        </p:grpSpPr>
        <p:grpSp>
          <p:nvGrpSpPr>
            <p:cNvPr id="76" name=""/>
            <p:cNvGrpSpPr/>
            <p:nvPr/>
          </p:nvGrpSpPr>
          <p:grpSpPr>
            <a:xfrm>
              <a:off x="539640" y="1428840"/>
              <a:ext cx="7737840" cy="1007280"/>
              <a:chOff x="539640" y="1428840"/>
              <a:chExt cx="7737840" cy="1007280"/>
            </a:xfrm>
          </p:grpSpPr>
          <p:sp>
            <p:nvSpPr>
              <p:cNvPr id="77" name=""/>
              <p:cNvSpPr/>
              <p:nvPr/>
            </p:nvSpPr>
            <p:spPr>
              <a:xfrm>
                <a:off x="539640" y="1933560"/>
                <a:ext cx="75265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7689600" y="1428840"/>
                <a:ext cx="587880" cy="1007280"/>
                <a:chOff x="7689600" y="1428840"/>
                <a:chExt cx="587880" cy="1007280"/>
              </a:xfrm>
            </p:grpSpPr>
            <p:sp>
              <p:nvSpPr>
                <p:cNvPr id="79" name=""/>
                <p:cNvSpPr/>
                <p:nvPr/>
              </p:nvSpPr>
              <p:spPr>
                <a:xfrm rot="16200000">
                  <a:off x="7550640" y="156780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 rot="5400000">
                  <a:off x="7550640" y="207144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929360" y="157356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927560" y="210996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 rot="10800000">
              <a:off x="8285040" y="165744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1:36Z</dcterms:modified>
  <cp:revision>36</cp:revision>
  <dc:subject/>
  <dc:title>Slide 1</dc:title>
</cp:coreProperties>
</file>